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ignboar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ignboar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D3F5-0FD8-470C-99C3-0AE5EC1F1C4A}" type="slidenum">
              <a:rPr b="0" lang="en-US" sz="1200" spc="-1" strike="noStrike">
                <a:solidFill>
                  <a:srgbClr val="000000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2041-9CAE-4EE7-B64B-90734B5E6AA9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0707-677F-47D7-AF1B-56F177FF3FB2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0D8D-4848-4C37-9493-7BC197869656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444E-23E3-49D1-9976-112CB65CEF0E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D164-20C6-4543-81CF-0E5D05827194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98A0-8CE2-488F-90F1-75D2685FA9F8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F0FE-E513-4EE4-9BF2-ED23027F9193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0DE0-6A30-473D-922C-0D2AC86954F1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D3B0-4521-446B-A4FD-D0942EC43930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433E-0A98-421D-A2B3-AFCA2F4E21F9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6B14-B208-4F20-AAAD-FD358251B6DD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52B2-4326-44EA-A412-2C2769B072C0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AD0B-CCA1-49D0-82D9-6A309C18F4B3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223F-0C72-4AAD-A61F-802C69CF3F3A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5B38-2A61-43B8-930F-9AA6989AC7A4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07A9-F139-4BD0-AD42-3DF8E77A574F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95C7-AA38-45A2-B33B-D678A520C3E2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9AA2-70D6-4279-AD16-5677CECD34A2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6B7C-4CEC-4708-A92B-5BE38A0FD6F1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E90E-9DD0-49B9-B693-E77245CB998E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6CDE-AD07-40E6-A1EE-9FBCC9C03D06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0459-DB94-464A-AEB0-40C50334746E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24F5-02F6-459C-8B83-E27840F4D64C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C74F-DAFD-43AE-957A-9D3C7D388359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D134-0F03-4AAC-8B21-9B100F345C12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A3F4-B3CC-48E5-A847-C0C5BC1011B0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0A72-42FA-41A0-A7CA-95203C10C911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4A6D-DEDD-459C-AB3F-9B059150F963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2D79-C29E-437B-A65C-04551EC7D6EF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761F-17FD-477D-A56D-642D57804242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F081-1487-473C-8218-330EBBDDC578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B542-DCA4-4835-8FE3-CA6CCD0D5FF8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A86C-F3C8-4D7E-A0C3-53B9256C3D1B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CD8C-A394-4D3A-8CF8-1C62F22F0005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389B-0352-424A-80F1-BD0E17452BB9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FCAC-2C1F-4322-A369-59190D8D5F07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DB9D-91B0-474C-9EA4-A137A153ABC6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D180-D039-4462-9500-0539BAFE237F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0104-E3FC-4185-8649-4976B97DE05B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685F-3C92-4A66-A34B-FFE6CC425E83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15C1-AAFB-44CC-9DB2-DF163471000F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F14F-ABEA-4A8E-8BA5-B340BDBEC240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70F8-4650-4D47-92FC-A6261EFF2086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469B-31DC-40DB-9D30-5886C2BF12D2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9006-1252-4034-9E64-C14740484939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5933-341A-4E63-9944-226C14B92E21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A2F9-E6F1-45F9-A668-68DD65E6CF60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7E35-13D1-48A8-A753-AB18D66A046B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35AA-6D22-4A3A-A7B0-78E4A34E7C32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EB74-D810-45D1-BD7B-F641E940D57C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F9F6-1B4C-4F4D-B9EE-B7E051F26B9F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91CF-0FA2-4BC3-AB73-FAC641D71DAD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2568-5BE9-43D6-9A0F-E0919FDC2AB9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8738-4712-489E-9C7C-059CC029B67B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A1B-8C4A-475E-8527-310BE608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07D1-9A3D-48A0-8D70-5279CDD7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81E7-9470-4C00-A959-2D77266B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0D5A-CB1A-4F48-A8DF-B1D4AFB0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510C-1D37-4FEE-9EC0-CC8B659B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99E7-28CE-4EFA-A964-B0B85F11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7420-E68B-45CA-B757-9C808039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8E24-E1F9-4E22-AEC9-16EEDAB2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45AE-100A-42DD-8811-00F1F968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F064-4942-4FD0-B33C-E6647620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46E-FBA3-4653-AA7F-B5AAC31E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67A7-295A-4063-9446-375B37A2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Sign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Sign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Sign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Sign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Sign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Sign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Sign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Signboar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85AF-7170-4154-8EDB-783DA650B9B0}" type="slidenum">
              <a:rPr b="0" lang="en-US" sz="14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25.xml"/><Relationship Id="rId4" Type="http://schemas.openxmlformats.org/officeDocument/2006/relationships/slide" Target="slide35.xml"/><Relationship Id="rId5" Type="http://schemas.openxmlformats.org/officeDocument/2006/relationships/slide" Target="slide45.xml"/><Relationship Id="rId6" Type="http://schemas.openxmlformats.org/officeDocument/2006/relationships/slide" Target="slide4.xml"/><Relationship Id="rId7" Type="http://schemas.openxmlformats.org/officeDocument/2006/relationships/slide" Target="slide14.xml"/><Relationship Id="rId8" Type="http://schemas.openxmlformats.org/officeDocument/2006/relationships/slide" Target="slide27.xml"/><Relationship Id="rId9" Type="http://schemas.openxmlformats.org/officeDocument/2006/relationships/slide" Target="slide37.xml"/><Relationship Id="rId10" Type="http://schemas.openxmlformats.org/officeDocument/2006/relationships/slide" Target="slide47.xml"/><Relationship Id="rId11" Type="http://schemas.openxmlformats.org/officeDocument/2006/relationships/slide" Target="slide6.xml"/><Relationship Id="rId12" Type="http://schemas.openxmlformats.org/officeDocument/2006/relationships/slide" Target="slide19.xml"/><Relationship Id="rId13" Type="http://schemas.openxmlformats.org/officeDocument/2006/relationships/slide" Target="slide29.xml"/><Relationship Id="rId14" Type="http://schemas.openxmlformats.org/officeDocument/2006/relationships/slide" Target="slide39.xml"/><Relationship Id="rId15" Type="http://schemas.openxmlformats.org/officeDocument/2006/relationships/slide" Target="slide49.xml"/><Relationship Id="rId16" Type="http://schemas.openxmlformats.org/officeDocument/2006/relationships/slide" Target="slide8.xml"/><Relationship Id="rId17" Type="http://schemas.openxmlformats.org/officeDocument/2006/relationships/slide" Target="slide21.xml"/><Relationship Id="rId18" Type="http://schemas.openxmlformats.org/officeDocument/2006/relationships/slide" Target="slide31.xml"/><Relationship Id="rId19" Type="http://schemas.openxmlformats.org/officeDocument/2006/relationships/slide" Target="slide41.xml"/><Relationship Id="rId20" Type="http://schemas.openxmlformats.org/officeDocument/2006/relationships/slide" Target="slide51.xml"/><Relationship Id="rId21" Type="http://schemas.openxmlformats.org/officeDocument/2006/relationships/slide" Target="slide10.xml"/><Relationship Id="rId22" Type="http://schemas.openxmlformats.org/officeDocument/2006/relationships/slide" Target="slide23.xml"/><Relationship Id="rId23" Type="http://schemas.openxmlformats.org/officeDocument/2006/relationships/slide" Target="slide33.xml"/><Relationship Id="rId24" Type="http://schemas.openxmlformats.org/officeDocument/2006/relationships/slide" Target="slide43.xml"/><Relationship Id="rId25" Type="http://schemas.openxmlformats.org/officeDocument/2006/relationships/slide" Target="slide53.xml"/><Relationship Id="rId26" Type="http://schemas.openxmlformats.org/officeDocument/2006/relationships/image" Target="../media/image1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85800" y="1981080"/>
          <a:ext cx="7772400" cy="430704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ignboard"/>
                        </a:rPr>
                        <a:t>D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ignboard"/>
                        </a:rPr>
                        <a:t>RN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ignboard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ignboard"/>
                        </a:rPr>
                        <a:t>synthesi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ignboar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ignboard"/>
                        </a:rPr>
                        <a:t>Not like the othe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ignboard"/>
                        </a:rPr>
                        <a:t>mutation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1" action="ppaction://hlinksldjump"/>
                        </a:rPr>
                        <a:t>$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2" action="ppaction://hlinksldjump"/>
                        </a:rPr>
                        <a:t>$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3" action="ppaction://hlinksldjump"/>
                        </a:rPr>
                        <a:t>$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4" action="ppaction://hlinksldjump"/>
                        </a:rPr>
                        <a:t>$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5" action="ppaction://hlinksldjump"/>
                        </a:rPr>
                        <a:t>$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6" action="ppaction://hlinksldjump"/>
                        </a:rPr>
                        <a:t>$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7" action="ppaction://hlinksldjump"/>
                        </a:rPr>
                        <a:t>$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8" action="ppaction://hlinksldjump"/>
                        </a:rPr>
                        <a:t>$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9" action="ppaction://hlinksldjump"/>
                        </a:rPr>
                        <a:t>$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10" action="ppaction://hlinksldjump"/>
                        </a:rPr>
                        <a:t>$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11" action="ppaction://hlinksldjump"/>
                        </a:rPr>
                        <a:t>$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12" action="ppaction://hlinksldjump"/>
                        </a:rPr>
                        <a:t>$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13" action="ppaction://hlinksldjump"/>
                        </a:rPr>
                        <a:t>$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14" action="ppaction://hlinksldjump"/>
                        </a:rPr>
                        <a:t>$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15" action="ppaction://hlinksldjump"/>
                        </a:rPr>
                        <a:t>$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16" action="ppaction://hlinksldjump"/>
                        </a:rPr>
                        <a:t>$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17" action="ppaction://hlinksldjump"/>
                        </a:rPr>
                        <a:t>$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18" action="ppaction://hlinksldjump"/>
                        </a:rPr>
                        <a:t>$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19" action="ppaction://hlinksldjump"/>
                        </a:rPr>
                        <a:t>$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20" action="ppaction://hlinksldjump"/>
                        </a:rPr>
                        <a:t>$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21" action="ppaction://hlinksldjump"/>
                        </a:rPr>
                        <a:t>$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22" action="ppaction://hlinksldjump"/>
                        </a:rPr>
                        <a:t>$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23" action="ppaction://hlinksldjump"/>
                        </a:rPr>
                        <a:t>$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24" action="ppaction://hlinksldjump"/>
                        </a:rPr>
                        <a:t>$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25" action="ppaction://hlinksldjump"/>
                        </a:rPr>
                        <a:t>$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Picture 55" descr="dna---best_02"/>
          <p:cNvPicPr/>
          <p:nvPr/>
        </p:nvPicPr>
        <p:blipFill>
          <a:blip r:embed="rId26"/>
          <a:stretch/>
        </p:blipFill>
        <p:spPr>
          <a:xfrm>
            <a:off x="685800" y="163440"/>
            <a:ext cx="4724280" cy="1817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Signboard"/>
              </a:rPr>
              <a:t>DNA Jeopardy</a:t>
            </a:r>
            <a:endParaRPr b="0" lang="en-US" sz="6000" spc="-1" strike="noStrike">
              <a:solidFill>
                <a:srgbClr val="ffff00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A dna nucleotide is made of these three parts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77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ar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Deoxyribose sugar,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Phosphate and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Nitrogeneous bas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ignboard"/>
              </a:rPr>
              <a:t>(accept sugar, phosphate and base)</a:t>
            </a: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80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This base chemical is only found in rna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83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Uracil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ignboard"/>
              </a:rPr>
              <a:t>(also accept just u)</a:t>
            </a:r>
            <a:endParaRPr b="0" lang="en-US" sz="2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86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Double JEAPORDY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Sign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board"/>
              </a:rPr>
              <a:t>How much do you wish to wager?</a:t>
            </a: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89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  <p:pic>
        <p:nvPicPr>
          <p:cNvPr id="90" name="Picture 5" descr="bd06504_"/>
          <p:cNvPicPr/>
          <p:nvPr/>
        </p:nvPicPr>
        <p:blipFill>
          <a:blip r:embed="rId1"/>
          <a:stretch/>
        </p:blipFill>
        <p:spPr>
          <a:xfrm>
            <a:off x="1905120" y="2743200"/>
            <a:ext cx="4724280" cy="3551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bd06145_"/>
          <p:cNvPicPr/>
          <p:nvPr/>
        </p:nvPicPr>
        <p:blipFill>
          <a:blip r:embed="rId2"/>
          <a:stretch/>
        </p:blipFill>
        <p:spPr>
          <a:xfrm>
            <a:off x="7238880" y="457200"/>
            <a:ext cx="1390680" cy="1758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bd06145_"/>
          <p:cNvPicPr/>
          <p:nvPr/>
        </p:nvPicPr>
        <p:blipFill>
          <a:blip r:embed="rId3"/>
          <a:stretch/>
        </p:blipFill>
        <p:spPr>
          <a:xfrm>
            <a:off x="304920" y="304920"/>
            <a:ext cx="139068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Double JEAPORDY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28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A molecule of rna has this shap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95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Double JEAPORDY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28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 a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single helix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98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The type of rna that is formed from one side of the dna cod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01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Messenger rna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board"/>
              </a:rPr>
              <a:t>(also accept mrna)</a:t>
            </a: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04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Carried by t-rna, these chemicals will end up being put together to make proteins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07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If one side of the DNA strand is GTAATC, the other side will be this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53" name="AutoShape 5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ar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Amino acids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10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The part of the cell that is producing RNA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13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 the nucleolus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16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If the dna code being used is atgc,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The </a:t>
            </a:r>
            <a:r>
              <a:rPr b="0" lang="en-US" sz="4800" spc="-1" strike="noStrike">
                <a:solidFill>
                  <a:srgbClr val="ffff00"/>
                </a:solidFill>
                <a:latin typeface="Signboard"/>
              </a:rPr>
              <a:t>t-rna</a:t>
            </a: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 code will be this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19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Augc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22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The place in the cell where proteins are mad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25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 the 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ribosome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28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The instructions to make the protein are in this molecul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31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DNA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34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A three-letter codon is made from m-rna, but it’s anticodon is made from this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37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 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Cattag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56" name="AutoShape 5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T-rna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40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8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Also called polypeptides, there are made by attaching amino acids together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43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are 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proteins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46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The process of turning the dna code into a protein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49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Translation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52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Adenin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Uracil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Guanin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phosphat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55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 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phosphate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ignboard"/>
              </a:rPr>
              <a:t>(it is not one of the bases in dna or rna)</a:t>
            </a:r>
            <a:endParaRPr b="0" lang="en-US" sz="2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58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T-rna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Z-rna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R-rna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M-rna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61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 z-rna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board"/>
              </a:rPr>
              <a:t>(not a type of rna molecule)</a:t>
            </a: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64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Griffith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Avery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Van leuwenhoek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Watson and crick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67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A DNA strand 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Has this shap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59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o is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Van leuwenhoek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ignboard"/>
              </a:rPr>
              <a:t>(not a dna scientist)</a:t>
            </a:r>
            <a:endParaRPr b="0" lang="en-US" sz="2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70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Duplication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Transcription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Translation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replication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73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Duplication?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board"/>
              </a:rPr>
              <a:t>(not a cell process)</a:t>
            </a: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76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Base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Phosphate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Sugar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codon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79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What is a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Codon?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ignboard"/>
              </a:rPr>
              <a:t>(not a part of a nucleotide)</a:t>
            </a:r>
            <a:endParaRPr b="0" lang="en-US" sz="2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82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A mutation is a change in the code of this molecule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85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DNA?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88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Base substitution, addition or deletion causes this type of mutation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91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What is a 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Point mutation?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94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Most mutations will cause a change in the sequence of these protein-building chemicals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97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 a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Double helix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62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What are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Amino acids?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00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This type of mutation occurs when a large part of a chromosome is missing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03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What is a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Deletion?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06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These two mutations change the order of a large section of a chromosome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09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What are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Translocation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And inversion?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12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The two side of the DNA molecule are held together by thes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65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ar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Hydrogen bonds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68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The process of making a new dna molecule from an old on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71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Replication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74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8:02:20Z</dcterms:created>
  <dc:creator>Ashlee Logan</dc:creator>
  <dc:description/>
  <dc:language>en-US</dc:language>
  <cp:lastModifiedBy>Anne</cp:lastModifiedBy>
  <dcterms:modified xsi:type="dcterms:W3CDTF">2010-05-06T00:51:40Z</dcterms:modified>
  <cp:revision>35</cp:revision>
  <dc:subject/>
  <dc:title>JEOPARDY</dc:title>
</cp:coreProperties>
</file>